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F94B6-3F01-4040-A2B8-4AC9CF9C7D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5 min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minu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0699C-1FB3-4D2A-92A4-EDA156E6D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EB9FB-9412-4064-B482-11B685A36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25B46-4E04-44F4-84C7-DE23DF4E4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919E9-DADA-4EB2-A016-CAFB7599A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E2D4E-2815-4BAD-941F-E8D6E3917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B6151-E89A-4952-8577-E281315A0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8B211-2BEE-474B-89BE-08E1516C4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69262-B7DA-4A78-A992-5385C8B93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ECEAE-2491-47C1-AC9A-4CF3D9739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1C856-A2BF-4029-A8BE-4752AE7D1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9A0AF-D870-4012-B332-703E613DF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6C27F-C24D-4FE9-9724-44044937F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A6B1F-E389-449A-AFD3-AC2F175CF7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mrwright.wikispaces.com/" TargetMode="External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ct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ct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3276720" y="3276720"/>
            <a:ext cx="3047760" cy="399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Bill Clinton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0" y="228600"/>
            <a:ext cx="38098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Yitzhak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Rabin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5334120" y="152280"/>
            <a:ext cx="380988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Yasser Arafat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background and main ev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ad the worksheet ‘Successes and failures from Camp David to Oslo’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ook through the questions: which questions do you already know the answers to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w write down/type up your answers to the questions, make sure you title and date your work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you finish early go to </a:t>
            </a:r>
            <a:r>
              <a:rPr b="0" lang="en-US" sz="2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mrwright.wikispaces.com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then IGCSE, then Middle East and find the ‘half a minute’ quiz on this subjec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mework due next less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pages 56-6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the form of a mind map answer question 2 from page 60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yond Oslo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2438280" y="838080"/>
            <a:ext cx="6705720" cy="480384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0" y="762120"/>
            <a:ext cx="2286000" cy="430776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point is the cartoonist trying to mak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 you think the assassination of Rabin might have affected the prospects for peace in the Middle Eas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55680" y="293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yond Oslo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pages 54-5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cuss as a group questions c,d &amp;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would you characterize the position of the peace process in 1997? How does the situation compare with 1967? 1978? 1993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slo Peace Accords: 199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77120" cy="220968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were the accord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did Israel sig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successful were they in practic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needed to be sorted out between the PLO and Israe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your groups brainstorm the different points of conflict/issues that need to be dealt with at this stage to ensure successful peac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nk! Land, refugees, power, rights, Jerusalem, settlers? What does Israel want? What does the PLO want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were the Accord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et of agreements negotiated in Oslo (Norway) and signed in Washington between Israel and the PLO in September 199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y principles were that Israel recognised the PLO and the PLO recognised Israe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 set up self rule for Gaza strip and West Bank under a ‘Palestinian Authority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pared the way for negotiations on the many remaining issu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ich issues remained unresolve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Israeli troops in some parts of the occupied territo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about the 100,000’s of refugees in the camps in Lebanon, Syria, Jordan etc? No ‘right to return’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erusalem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ewish settlements still in the West Bank - not under the control of the new ‘Palestinian authority’, what is their long term futur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o were the key individual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Yasser Araf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asser Arafat - who had gradually been moving the PLO closer to recognizing Israel (However his willingness to negotiate had led to splits in the PLO including the rise of Hamas)Bill Clint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965840" y="1981080"/>
            <a:ext cx="3173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Yitzhak Rab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s Prime Minister of Israel from 1992-199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ad of the Labour Party: prepared to make a deal with the Palestinians unlike his predecessor Shami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id the ultimate price for peace: was assassinated by an Israeli extrem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4984920" y="1981080"/>
            <a:ext cx="31366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imon Pe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raeli foreign minis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ucted secret negotiations in Os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ok over as PM after the death of Rabin in 1995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4648320" y="2768760"/>
            <a:ext cx="3809880" cy="253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4T08:44:04Z</dcterms:created>
  <dc:creator>Mr. Wright</dc:creator>
  <dc:description/>
  <dc:language>en-US</dc:language>
  <cp:lastModifiedBy>Mr. Wright</cp:lastModifiedBy>
  <dcterms:modified xsi:type="dcterms:W3CDTF">2008-11-04T23:53:26Z</dcterms:modified>
  <cp:revision>15</cp:revision>
  <dc:subject/>
  <dc:title>PowerPoint Presentation</dc:title>
</cp:coreProperties>
</file>